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856-4B96-472E-981D-90A7237E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9AF-CCB1-4CF8-9BEC-6E913E32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E9661-2430-45D1-B8FB-DC5F17A4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71C0E-9890-48AD-8DC9-8F55A5FE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EE873-160D-425F-AAD5-D99E1591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4EA9B-ED7A-4092-B585-B6B99680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EE404-0044-416E-B496-D0D236F3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07EEA-C801-488A-84F9-C7A388DA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C8470-5126-4628-866F-914A3729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FD83E-7BB4-4675-BB95-D57850B2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6638C-76DC-4025-A4A9-ABA11543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CB1-B659-4DE0-8F94-44D86887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24C-607E-49D8-B0AF-393E7C14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F411-D138-4B52-B53C-72F39F38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6655-23F1-4CDD-90BD-04D39518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B63F-109F-4A99-93E1-273D2FEB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FEEE-34D8-47D3-AA13-917E3A26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0DA2-C46F-4FC7-9B70-8025D932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BA4A-E64B-4F58-A918-DEBFBD4C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C655-2739-4476-9E43-932125AD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AB9-6DB1-41D9-8BDD-FD1CA015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63B0-5560-45EE-9437-694C6837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A9E5-3414-4CE2-A52F-9F3EF469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F5F4-6B56-45C2-8AA2-8D527F64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B09F-399A-4C7B-9C9B-E5C1836F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8023-F8EA-4C96-B6C7-D5AA967D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E6E4A-CE21-45D8-A245-52A7C757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259D3-CADF-40B6-994C-ACC98A54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9D3FD-B837-4DB6-A4F5-5EF6B62B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908ED-FF49-447D-8D5D-36F2409E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92E1F-09DB-489B-A2BC-2F1A2253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73D-777A-4F05-8450-B640484F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D1999-EB6A-43F3-B4FF-1061779E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1DC33-7131-439D-AEA6-5780B873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F3FA3-81BA-4584-84E6-2F949500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BFFEE-D51C-47E8-AE3D-075BC471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B13FA-759A-4799-9DC7-8B1C8D61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238D-6CEA-49F0-9350-0A1541FF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324A0-7301-4E49-BC75-826CD9F0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F9FAC-EDF8-4D97-84FC-8C9F837C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2047B-AA77-47D9-94A9-900C01E7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B3A25-B980-473A-A0BE-C30042E9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4A8-C24A-4D25-A19C-5947C3C5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6209A-19DD-41C6-A5B4-57936713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E9891-4705-4313-A1C9-6DEA1702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16BC6-BAB4-4C7D-82A5-E32CEF27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A1389-3C81-4C35-9C56-BAA591E0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BF378-7C2A-4648-BDDA-0F3019FB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3DE50-9FBC-4941-8FA8-9AA0EA95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50191-8B24-41A2-9C4B-07340705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4761E-B36D-4CEF-8E8A-CF9C8E9F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6982E-AEF6-43D5-B9BD-92EA0A4F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5912B-4170-43C8-A803-F52C6DCC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7EC-1D9E-4C4E-91E2-215BD951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A0F3F-F7C1-40F1-900A-496A8AE7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4381D-2B90-4E03-8EF2-7D33E643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95AE9-DC58-4B3F-AFE0-21C6AB1E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5DB6E-25DC-49C2-9E62-81E9CB42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BAC96-D30D-440C-ADDD-B5283BFC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BEAD0-0342-4161-A0F7-EAA8B651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2C811-B0E3-4A9C-A704-CA7D1F40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E5743-82D1-4AED-8780-14A1F6A5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87A6F-4431-4398-AED3-E423315A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30E54-68B1-4B0A-9DF4-4A5CF2C1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4A9-2E50-4763-9B11-E7F487FB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076BE-3E4B-419E-949B-7C492CF0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825A3-326F-4B25-A1DD-7676EBC8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5E7D9-9420-4C08-8CB0-20F8062C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3F78B-BD34-40C4-BC7D-02344198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DAF3A-8621-40E3-A801-17610F55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D33FF-5BA2-4698-9BD1-937CFB2B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02851-C14D-454E-9A8F-4408ADB0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DB061-4DB8-447D-BA1D-2EDF7835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18780-4F95-4F36-AF63-0AAE8BC0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88FEF-8AC4-41ED-B25A-508B473C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B58-41A3-444C-99CB-BA84E953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CDAEF-BEB0-4868-A9D0-08E9924E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1130F-252F-4409-904F-B1899C98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4A23A-9554-4F1D-ABCE-E4D1187E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3DD72-3A25-4635-AC24-2270CB9E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926A7-8D94-4921-B331-F95D493F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CF4F7-AA71-4064-A5BE-7180715A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AC7BF-5FD4-4834-BB35-53FDE886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7B39E-FD65-4A49-AAAD-40B1878E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EBF5F-253B-482B-BEF9-F1DE5F3E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BE72E-E6B2-4419-8F1B-E12F532D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F79-1169-4ECF-9790-EBF2BA5D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4DFC8-36BF-4780-A5BE-E70B2DF0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2D588-B621-4DFE-B1A5-2471E9B6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8FDB5-C6E7-48BB-9402-1C022185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6FB1B-0EF7-4DF7-92FF-4E6ED759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B0012-1011-455B-BD2F-B0AC5674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DCB72-2297-4437-B5B7-EBE39E27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56430-DC28-43FB-A86A-4301DDF0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0AB35-63E3-4750-BDB8-EAF570B1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78253-1575-4ADB-B05F-73838943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A6CA4-EFCA-481E-B30A-B5DC7A74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BC5-5605-43BF-A1EB-189EBE3B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15CEC-29AB-47A6-A8C0-EB1E6F96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3698E-3EDE-43A6-A9AB-BA4408AF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C92D9-C86F-43D5-BB58-3D17C221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FF9D0-E467-4DC8-B4AF-37F6D294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75A3D-46BE-473B-9287-D97D524C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2BCA7-B732-4E4E-B9FC-19DFDC1A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E64BC-DB1B-4044-97C9-5DF9DC4A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0CCE5-6906-4004-8432-98E9B64B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6F089-4CEE-4FFF-B611-D42F73E9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F1920-2E7E-42C4-9242-0211B798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30B2-608F-41F6-AC20-ECFE4B1B642A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5800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FDAE-1001-4D2F-8E79-9AFFBA977902}" type="slidenum"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A0F7-A2BC-49BA-A1C0-3694727462C9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66D9-B7E9-426A-BE05-F2D15FD6E870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6FFF-915A-464E-97FF-913C158D7DBA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529C-FF2E-4C49-A066-A8346F422936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F4FD-C4B7-4164-AAFE-90FCD0952FBE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BA3B-53AB-42C0-AF7E-7B2BF0F29618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E525-7B79-48ED-8C07-239EBAC88E1B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1182600" y="1390680"/>
            <a:ext cx="6778800" cy="2028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Book Antiqua"/>
              </a:rPr>
              <a:t>JESÚS GONZÁLEZ PÉREZ&amp;JULIO VILLALBA MELGUIZO</a:t>
            </a: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2-INSTALACIONES Y MATERIAL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3-RECURSOS ECONÓMIC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3.-PROMOCIÓN Y DIFUSIÓN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4.-FASES DE PUESTA EN MARCHA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5.-DOCUMENTACIÓN Y BIBLIOGRAFIA CONSULTADA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7.-ANEX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85440" y="2209320"/>
            <a:ext cx="77468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1INTRODUC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2-JUSTIFICA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3-OBJETIVOS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4-ANALISIS DEL CONTEX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5-ESTUDIO DEL MERCAD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1.6-DESCRIPCIÓN DEL PROGRAMA DE ACTIVIDADE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-LOS RECURSOS Y MEDIOS NECESARI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1-HUMAN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ose</dc:creator>
  <dc:description/>
  <dc:language>en-US</dc:language>
  <cp:lastModifiedBy>JGP</cp:lastModifiedBy>
  <dcterms:modified xsi:type="dcterms:W3CDTF">2010-05-04T10:50:57Z</dcterms:modified>
  <cp:revision>9</cp:revision>
  <dc:subject/>
  <dc:title>NATURALCAMP</dc:title>
</cp:coreProperties>
</file>